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E1D-F939-4108-9FC2-4271EC24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9E7-9A2B-41AD-ABB7-F0200FD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03D-69E6-4FB5-9809-623B105D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A7B-A474-4F63-A827-C777A99A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B2D-CBD0-4FB1-95E0-4BBC3CF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954-433A-4DE5-BF0A-138C4C7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173-096B-470F-BE15-480E041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19B-0E44-4294-BC18-525D4FA8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E30-637B-49FE-A212-D919604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C34-1E31-40AF-8489-1A1E059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D27-5DE2-4761-BEB2-C18D56C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05C-2417-43B2-9613-D69323D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560" indent="-4287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04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0309B438-670D-406D-8A4B-AC3CD4F39100}" type="slidenum"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1371600"/>
            <a:ext cx="14001840" cy="671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07080" y="105156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63680" y="1676520"/>
            <a:ext cx="13273200" cy="64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83400" y="106678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1440" y="1981080"/>
            <a:ext cx="13657320" cy="609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83400" y="1059192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50:21Z</dcterms:created>
  <dc:creator>Gian Piero Deidda</dc:creator>
  <dc:description/>
  <dc:language>en-US</dc:language>
  <cp:lastModifiedBy>Gian Piero Deidda</cp:lastModifiedBy>
  <dcterms:modified xsi:type="dcterms:W3CDTF">2003-03-26T09:09:51Z</dcterms:modified>
  <cp:revision>2</cp:revision>
  <dc:subject/>
  <dc:title>Presentazione di PowerPoint</dc:title>
</cp:coreProperties>
</file>