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60B-F6BD-467E-A90B-FFEDCC99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749-E9FD-48DB-A463-67C1C662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3ED-C19C-4FA7-A488-667D9108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8600-B69F-4E54-BC30-EDDCD4AB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828-6376-4ADD-99DA-4ED9338C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48E-3617-4C25-8053-71EC2357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869-FF12-4FD7-A124-99C21018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1EA-6CF6-42D8-B93D-41B44B2D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F1A-F58F-4DE3-A650-41DE3C16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CEA-A5AB-4641-BEA7-30B40F4E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7B34-CDF0-4145-87B6-51F3BF8C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78C-4A1B-4D90-A8E1-B3424E7D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244D-20B8-4260-86FC-8DFD56E52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09800" y="725400"/>
            <a:ext cx="7124400" cy="477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077680" y="6324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ig. 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725400"/>
            <a:ext cx="7162560" cy="4772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077680" y="6324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ig. 5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4960" y="318960"/>
            <a:ext cx="7534080" cy="622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077680" y="6324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ig. 5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85680" y="1368360"/>
            <a:ext cx="7172640" cy="4743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077680" y="6324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ig. 5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5400" y="1339920"/>
            <a:ext cx="7153200" cy="480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077680" y="6324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ig. 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08:35:50Z</dcterms:created>
  <dc:creator>Gian Piero Deidda</dc:creator>
  <dc:description/>
  <dc:language>en-US</dc:language>
  <cp:lastModifiedBy>Gian Piero Deidda</cp:lastModifiedBy>
  <dcterms:modified xsi:type="dcterms:W3CDTF">2003-03-26T09:08:47Z</dcterms:modified>
  <cp:revision>3</cp:revision>
  <dc:subject/>
  <dc:title>Presentazione di PowerPoint</dc:title>
</cp:coreProperties>
</file>